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837A-A9B3-4168-BFCB-2740B4AF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308-B455-48C6-8BE9-82EA5425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9570-6E64-4644-B550-A127CA99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69B-4435-4FFD-AE6E-7A0CC517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E210-71CC-49DA-B2D1-7104F7BF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BA5B-041B-4591-B2FC-F1171F67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3CF-79F8-486A-A4EE-47AD8230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9B6-786D-4CCA-B526-DAC27362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13C6-3317-4B06-863F-C09AF796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85C-C400-4A1F-88A0-C3124B0F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266-0179-4EFB-8753-B4756AEC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3F52-7BE0-4278-9355-D329D550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136E-0C37-411F-8C00-DF8D0A5BA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295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NARKSHIRE  ASSOC. 1922      LANARKSHIRE  ASSOC.  1928          LANARKSHIRE  ASSOC.           LANARKSHIRE  ASSOC.  100TH.                     BELTANE                                             BELT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9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TANE                                             BIGGAR                                           CARLUKE                                         CARLUKE                                         CARLUKE                          CARLUKE  V  CAMPHILL  100TH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LUKE  100TH                          CARLUKE  125TH                                      CARNWATH                                   CARSTAIRS                                        CASTLEHILL                             CASTLEHILL  6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00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LVILLE  PARK                      COLVILLE  PARK                              COLVILLE  PARK  5OTH                COLVILLE  PARK  75TH                            DALZELL                                           DALZ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13240" y="189000"/>
            <a:ext cx="1189080" cy="1157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40160" y="260280"/>
            <a:ext cx="95112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681960" y="404640"/>
            <a:ext cx="1023840" cy="92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8265960" y="260280"/>
            <a:ext cx="1097280" cy="1009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073240" y="1989000"/>
            <a:ext cx="1133640" cy="997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5024520" y="1628640"/>
            <a:ext cx="1390680" cy="131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488880" y="3141720"/>
            <a:ext cx="1352520" cy="161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800520" y="3860640"/>
            <a:ext cx="987480" cy="90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5168880" y="3716280"/>
            <a:ext cx="113364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6824520" y="3716280"/>
            <a:ext cx="97020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776160" y="5516640"/>
            <a:ext cx="82260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2144880" y="5373720"/>
            <a:ext cx="877680" cy="1060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3873600" y="5084640"/>
            <a:ext cx="858600" cy="1289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5240160" y="5373720"/>
            <a:ext cx="109728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681960" y="5157720"/>
            <a:ext cx="1352520" cy="127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8408880" y="5373720"/>
            <a:ext cx="87804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8265960" y="1700280"/>
            <a:ext cx="1206720" cy="1289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6608880" y="1773360"/>
            <a:ext cx="1326960" cy="1177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3728880" y="1989000"/>
            <a:ext cx="1009800" cy="1006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2000160" y="3429000"/>
            <a:ext cx="1284480" cy="1324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8193240" y="3933720"/>
            <a:ext cx="1326960" cy="819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560520" y="2060640"/>
            <a:ext cx="1060200" cy="960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560520" y="260280"/>
            <a:ext cx="1114200" cy="1057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2073240" y="260280"/>
            <a:ext cx="10857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07:54:25Z</dcterms:created>
  <dc:creator>JOHN YOUNG</dc:creator>
  <dc:description/>
  <dc:language>en-US</dc:language>
  <cp:lastModifiedBy>JY</cp:lastModifiedBy>
  <cp:lastPrinted>1999-12-15T19:38:48Z</cp:lastPrinted>
  <dcterms:modified xsi:type="dcterms:W3CDTF">2008-04-08T09:35:38Z</dcterms:modified>
  <cp:revision>25</cp:revision>
  <dc:subject/>
  <dc:title>No Slide Title</dc:title>
</cp:coreProperties>
</file>